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46B-45AF-44EF-BC6B-5D1037D72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57D-EFD9-4E46-A3AD-CD86DA3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0267-C9CA-41D0-929C-9AE78ED92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4692-9118-4083-B37A-5D5124979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37D95-5FE6-4F6A-A5CA-460D5EE6D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C46C3-C525-4632-9988-5B88330D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10AFC6-5E10-467E-9BD2-0FA2E766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91219-E550-48D6-90BD-C1971BF9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692F0-8D3E-4829-A591-9D278C15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A45C0-77A7-4593-B987-DC03EAE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26CCE-4D53-4E81-BA85-E87D3B8D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146-F239-4864-BE08-074BB98A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6DFD3-6511-4EFC-A733-0D3D7C89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6E5CE-5A78-4849-9CF4-5D91890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A671B-185C-4E42-947D-DD030281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7F10FE-0466-438D-939A-F73938A49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4DE03-25D6-47C8-A9B0-8269BF1E6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29AA-90EF-43FD-A52D-E0A891B5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4F7-26FB-4677-A839-D342CEB0A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0AD-2069-4206-97C6-72430C7E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8027-8C5B-4415-9A24-F9FBD41E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0E0-0B80-484C-99F7-9E8D2B6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613-92A8-4478-B1C8-BAC836B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91AE-04D1-4D63-9E43-4C875240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CBCE-95CA-47C9-8AE2-E8B19B4886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FA925-044B-4F7C-90C8-B18560B566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Papyrus"/>
              </a:rPr>
              <a:t>Is Man Inherently Evil as Golding suggests i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Papyrus"/>
              </a:rPr>
              <a:t>Lord of The Fli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</a:rPr>
              <a:t>How did I become me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pyrus"/>
              </a:rPr>
              <a:t>I got the job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pyrus"/>
              </a:rPr>
              <a:t>And here I am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How do I want to be described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952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Adventurous, fair, crafty curious, intelligent, jovial diligent, generous, bright, charismatic, exuberant, cooperative, fierce, conscientious, loving, loved, friendly, satisfied, happy………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Could I be described as…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Bossy, bitchy, immature, foolish impulsive, impatient, aggressive, fidgety, cowardly critical, grumpy, gullible, harsh, arrogant, mean, impudent, lackadaisical, lazy, hateful, hated………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What determines my character?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ho am 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I am confident, determined……I am a work in progres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Papyrus"/>
              </a:rPr>
              <a:t>I was not born any of these things.  My experiences have shaped how I see the world, but I choose to be who I am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pyrus"/>
              </a:rPr>
              <a:t>I am me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No one can change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Papyrus"/>
              </a:rPr>
              <a:t>I am one of 7 children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No one has time for 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I had to put my dog to sleep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No one asked how I fel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My parents are getting divorced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here will I liv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pyrus"/>
              </a:rPr>
              <a:t>I am Captain of the Volleyball tea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3428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They must really think I am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My friend died in a car acciden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pyrus"/>
              </a:rPr>
              <a:t>Who am I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ow do I deci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pyrus"/>
              </a:rPr>
              <a:t>I want to be a good pers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reat others how I want to be tre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apyrus"/>
              </a:rPr>
              <a:t>He asked me to marry him!!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Papyrus"/>
              </a:rPr>
              <a:t>Life is going to be perfect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7:10:58Z</dcterms:created>
  <dc:creator>Eldred Central School</dc:creator>
  <dc:description/>
  <dc:language>en-US</dc:language>
  <cp:lastModifiedBy>Eldred Central School</cp:lastModifiedBy>
  <dcterms:modified xsi:type="dcterms:W3CDTF">2010-07-06T12:30:36Z</dcterms:modified>
  <cp:revision>3</cp:revision>
  <dc:subject/>
  <dc:title>I am one of 7 children </dc:title>
</cp:coreProperties>
</file>